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rs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zhangsa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相对路径：文件名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a.m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意味着当前目录的文件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a.m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rs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zhangsa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相对路径：文件名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a.m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意味着当前目录的文件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a.m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Foundation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有一个函数，它用于获取一列特殊的目录，如用户的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Doucments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确定文件的大小及其属性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测试两个文件的内容是否相同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从现有文件中读取数据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重命名文件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24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章：文件操作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路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5240" y="2184480"/>
            <a:ext cx="12522240" cy="702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绝对路径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也叫完整路径，以</a:t>
            </a:r>
            <a:r>
              <a:rPr b="0" lang="zh-CN" sz="3000" spc="-1" strike="noStrike">
                <a:solidFill>
                  <a:srgbClr val="00ff00"/>
                </a:solidFill>
                <a:latin typeface="Chalkboard"/>
                <a:ea typeface="Heiti SC Light"/>
              </a:rPr>
              <a:t>斜线</a:t>
            </a:r>
            <a:r>
              <a:rPr b="0" lang="en-US" sz="3000" spc="-1" strike="noStrike">
                <a:solidFill>
                  <a:srgbClr val="00ff00"/>
                </a:solidFill>
                <a:latin typeface="Chalkboard"/>
                <a:ea typeface="Heiti SC Light"/>
              </a:rPr>
              <a:t>/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始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00"/>
                </a:solidFill>
                <a:latin typeface="Chalkboard"/>
                <a:ea typeface="Heiti SC Light"/>
              </a:rPr>
              <a:t>斜线</a:t>
            </a:r>
            <a:r>
              <a:rPr b="0" lang="en-US" sz="3000" spc="-1" strike="noStrike">
                <a:solidFill>
                  <a:srgbClr val="00ff00"/>
                </a:solidFill>
                <a:latin typeface="Chalkboard"/>
                <a:ea typeface="Heiti SC Light"/>
              </a:rPr>
              <a:t>/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际上就是一个目录，称为</a:t>
            </a:r>
            <a:r>
              <a:rPr b="0" lang="zh-CN" sz="3000" spc="-1" strike="noStrike">
                <a:solidFill>
                  <a:srgbClr val="00ff00"/>
                </a:solidFill>
                <a:latin typeface="Chalkboard"/>
                <a:ea typeface="Heiti SC Light"/>
              </a:rPr>
              <a:t>根目录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1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/System/Liberary”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这个路径指定了三个目录：</a:t>
            </a:r>
            <a:r>
              <a:rPr b="0" lang="en-US" sz="3000" spc="-1" strike="noStrike">
                <a:solidFill>
                  <a:srgbClr val="ff7f00"/>
                </a:solidFill>
                <a:latin typeface="Chalkboard"/>
                <a:ea typeface="Heiti SC Light"/>
              </a:rPr>
              <a:t>/(</a:t>
            </a:r>
            <a:r>
              <a:rPr b="0" lang="zh-CN" sz="3000" spc="-1" strike="noStrike">
                <a:solidFill>
                  <a:srgbClr val="ff7f00"/>
                </a:solidFill>
                <a:latin typeface="Chalkboard"/>
                <a:ea typeface="Heiti SC Light"/>
              </a:rPr>
              <a:t>根目录</a:t>
            </a:r>
            <a:r>
              <a:rPr b="0" lang="en-US" sz="3000" spc="-1" strike="noStrike">
                <a:solidFill>
                  <a:srgbClr val="ff7f00"/>
                </a:solidFill>
                <a:latin typeface="Chalkboard"/>
                <a:ea typeface="Heiti SC Light"/>
              </a:rPr>
              <a:t>)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 </a:t>
            </a:r>
            <a:r>
              <a:rPr b="0" lang="en-US" sz="3000" spc="-1" strike="noStrike">
                <a:solidFill>
                  <a:srgbClr val="ff7f00"/>
                </a:solidFill>
                <a:latin typeface="Chalkboard"/>
              </a:rPr>
              <a:t>System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r>
              <a:rPr b="0" lang="en-US" sz="3000" spc="-1" strike="noStrike">
                <a:solidFill>
                  <a:srgbClr val="ff7f00"/>
                </a:solidFill>
                <a:latin typeface="Chalkboard"/>
              </a:rPr>
              <a:t>Liberary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相对路径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相对于当前目录的路径名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路径中的特殊字符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00280" y="2997360"/>
          <a:ext cx="11391840" cy="5118120"/>
        </p:xfrm>
        <a:graphic>
          <a:graphicData uri="http://schemas.openxmlformats.org/drawingml/2006/table">
            <a:tbl>
              <a:tblPr/>
              <a:tblGrid>
                <a:gridCol w="3957480"/>
                <a:gridCol w="7434360"/>
              </a:tblGrid>
              <a:tr h="1279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特殊字符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含义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3">
                        <a:alphaModFix amt="95000"/>
                      </a:blip>
                      <a:tile tx="0" ty="0" sx="100000" sy="100000" algn="ctr"/>
                    </a:blipFill>
                  </a:tcPr>
                </a:tc>
              </a:tr>
              <a:tr h="1279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～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用作用户主目录的缩写，如表示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/Users/zhangs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.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表示当前目录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..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7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表示父目录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30240"/>
            <a:ext cx="10464840" cy="299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程序中，应该避免使用硬编码的路径名，可以使用方法和函数来获取当前目录路径名、用户主目录以及可以用来创建临时文件目录。应该尽可能地利用这些函数和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关于路径常用函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TemporaryDirectory():</a:t>
            </a:r>
            <a:r>
              <a:rPr b="0" lang="zh-CN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系统中可以用来创建临时文件的目录路径名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HomeDirectory():</a:t>
            </a:r>
            <a:r>
              <a:rPr b="0" lang="zh-CN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当前用户的主目录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HomeDirectoryForUser(NSString *user);</a:t>
            </a:r>
            <a:r>
              <a:rPr b="0" lang="zh-CN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用户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user</a:t>
            </a:r>
            <a:r>
              <a:rPr b="0" lang="zh-CN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的主目录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UserName();</a:t>
            </a:r>
            <a:r>
              <a:rPr b="0" lang="zh-CN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当前用户的登录名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FullUserName();</a:t>
            </a:r>
            <a:r>
              <a:rPr b="0" lang="zh-CN" sz="24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当前用户的完整用户名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关于路径的方法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23960" y="2273400"/>
            <a:ext cx="1177272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lastPathComponent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:</a:t>
            </a:r>
            <a:r>
              <a:rPr b="0" lang="zh-CN" sz="3000" spc="-1" strike="noStrike">
                <a:solidFill>
                  <a:srgbClr val="ffffff"/>
                </a:solidFill>
                <a:latin typeface="Lucida Grande"/>
                <a:ea typeface="Heiti SC Light"/>
              </a:rPr>
              <a:t>从路径种提取最后一个文件名</a:t>
            </a: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Heiti SC Light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Lucida Grande"/>
                <a:ea typeface="Heiti SC Light"/>
              </a:rPr>
              <a:t>文档有详细解 释</a:t>
            </a: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Heiti SC Light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stringByAppendingPathComponent: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用于将文件名附加到路径的末尾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pathExtension: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后缀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pathComponents: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返回一数组，这个数组包含指定路径的每个组成部分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stringByStandardizingPath: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删除路径中包含的代符号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(</a:t>
            </a:r>
            <a:r>
              <a:rPr b="0" lang="zh-CN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运行到最终结果</a:t>
            </a:r>
            <a:r>
              <a:rPr b="0" lang="en-US" sz="30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管理文件和目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666520"/>
            <a:ext cx="1046484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文件夹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判断文件是否存在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删除文件夹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复制文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774720" y="7683480"/>
            <a:ext cx="11442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这些操作主要是有由</a:t>
            </a:r>
            <a:r>
              <a:rPr b="0" lang="en-US" sz="4200" spc="-1" strike="noStrike">
                <a:solidFill>
                  <a:srgbClr val="ffff00"/>
                </a:solidFill>
                <a:latin typeface="Chalkboard"/>
                <a:ea typeface="Chalkboard"/>
              </a:rPr>
              <a:t>NSFileManager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来完成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NSFileManager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6960" y="2629080"/>
            <a:ext cx="11417400" cy="509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+defaultManager:</a:t>
            </a:r>
            <a:r>
              <a:rPr b="0" lang="zh-CN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创建一个默认的文件管理对象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–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ExistsAtPath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测试文件是否存在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–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createFileAtPath:contents:attributes:</a:t>
            </a:r>
            <a:r>
              <a:rPr b="0" lang="zh-CN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创建一个文件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–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removeItemAtPath:error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删除文件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–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copyItemAtPath:toPath:error:</a:t>
            </a:r>
            <a:r>
              <a:rPr b="0" lang="zh-CN" sz="3000" spc="-1" strike="noStrike">
                <a:solidFill>
                  <a:srgbClr val="ffffff"/>
                </a:solidFill>
                <a:latin typeface="Courier New"/>
                <a:ea typeface="Heiti SC Light"/>
              </a:rPr>
              <a:t>拷贝文件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练习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30240"/>
            <a:ext cx="10464840" cy="275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判断一个文件是否存在，存在就删除该文件，不存在创建该文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